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7E7-D4BC-47C9-AB78-7C623BE4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5E9-0135-4B3A-9D91-11981725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D4BDD-3F90-436A-B593-8D43C746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D0F19-BBB1-452A-AF86-6BFE85BC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7CBC5-4771-4F7F-BF20-E602E732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28841-ECCE-4A64-BF1E-13939FA0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6D875-301B-4380-ACCF-277B1807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FDE17-5FD3-477B-A2A7-C5A55843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A2106-2159-4313-9100-37591922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57BE3-6FA3-487D-A17D-68153D0E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289AF-F472-4E72-9053-3A6CB51F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98509-61DB-4039-9CE8-6063A09C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453-2FAE-452C-BE6C-FBF85501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91AA5-5274-4E73-A3E2-512FB4B3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CE126-80AA-4BE1-BADD-8E6FD9A3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E25F6-178D-48D8-B691-EE676332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CC4E2-ED28-4324-B244-942CD0A3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9897A-644A-4B76-B3AF-1DAE2C94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8611B-7839-4ABA-81BB-927A4346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59B8E-C32F-402D-BA28-8062BC91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2225C-2C59-4E37-9163-948BB7DE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9FDA2-EC14-4047-ACA2-050BFEB9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76EDD-78EC-46AA-941F-26CFD44B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E16-17EA-4CF2-A1B7-510BE15C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DBEAD-D150-452D-AACF-FF075B0F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4BAFE-8CF8-40CD-ACF2-DD55EE72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E21FF-264E-42AE-8F2D-5EEFE2EB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DA0F5-C663-44E2-B166-A6308FBC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66975-5D21-4EDF-B76A-2328174B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5A14F-1D63-4F9C-8481-E059CBCB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D774D-F8A8-4C5A-9BA9-2E09DF96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D9072-0BB4-49C9-A140-D936490E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1B191-F085-49CD-82FA-ABB0021B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4558C-934C-4805-BB16-5E8FF8EB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BA8A-1F28-4AF9-BDBD-5EF2D892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F7800-BB68-4E61-BA43-D29C2D1D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769F0-894F-4CCD-9AE2-8164AEC3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CDE3B-FD0C-4229-8859-31CA3044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E99E6-CC19-49D4-A669-F3FC6412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8F02F-CA40-4C03-8DB0-DC6ADDC4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7C5D0-0D9A-472C-8FAD-63A2D44D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5E554-3F07-43DA-8A8D-152A9EBF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F5427-E149-44B7-83CC-0A0DC2C3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8103E-1036-426F-9F32-2C19FDC7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D01F1-B69F-434C-988A-2CB03B6A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5BBB-1792-422C-876C-0612F694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E9F09-FD13-480E-93C0-84210A18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963BC-C05F-4A75-A7C5-F2B8EC93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69C04-1943-4E7E-AB54-C81DA001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D15B7-60BB-4E49-9B30-0E39CEE5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88767-A49D-41F5-B4F9-66F07AB6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8B14C-9743-4258-A56E-68CDDBFB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FAE48-CB7C-4601-8351-5446FD4B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86751-B9FA-46EB-ABE8-DE26D204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4CA25-853C-4D1F-9BBB-8996C9DC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AEE21-EAAA-4E1A-B540-F305AEEE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3D42-4ABB-4E6C-90F9-41163920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6A44A-B514-41F5-91F4-2A80336B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C52C9-642F-455D-AA3E-D0767804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89AD0-6EC0-43A4-8F26-9E892E59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276EC-D3CC-4076-9C99-C6B513FD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19BDF-F7DB-44F6-BAB0-99CA2602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AA499-66C8-4B70-BF49-B0B5ED63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87EC6-18DD-4066-9403-1D7DE924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AA0AA-5CCF-4E56-8B71-38381A0F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A18D7-064F-4FA0-97AF-C3E663D6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A1917-7130-47A7-B884-59D391BE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C2B6-F564-43B9-A462-57E851AB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77DBCB-F928-4E38-B820-3601F3BA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D74A73-8F04-4C2B-93A6-3AB989E3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C455C-654D-421C-B502-6DFE1328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6124AB-1269-43E2-98E2-11244BBF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ABE0B-E651-49F7-A404-32AAE629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E5DFC-20B2-446F-A1C7-288F6FA1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4877E-B244-4944-A1F9-5DAD711D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EC2C6F-3344-4728-A83F-BD746270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FB31F-048C-43C1-A802-57DF74A6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AA24EE-D409-4F9B-8BA1-EC07E899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D80A-C419-491D-B6B2-9EE7A6ED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A25204-92AC-4089-AB5D-57251B9F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08CE19-D9C7-4827-A75C-292FA84A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125D03-66CC-4C49-BADC-10F916A3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35C026-2A37-4242-844C-A3509BAC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3578C0-5A54-4A39-A632-5706EBDA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0B875-28A1-43FF-BFD9-BD486138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AB009-EE14-4202-B759-6F5286A7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966E8-1249-475B-99A8-554B065E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6077E3-9533-4B55-83FB-996ACC6C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CD5873-35F0-4C29-95E1-9F541392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835F-C0D5-4A44-931C-8FC3E4EF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AFE74-E76F-41D5-A5AF-657D1080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2CDAD-7F44-4B22-A9C9-1D12782B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4FC369-7CB3-418D-81F3-287F1C0C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4F06E-2ECD-488F-8FD9-1C5F6873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28E1C-C8F0-4642-A554-ABC2D8CB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A616B8-E96D-4DA7-8B5B-2A8F25D0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98A103-A1D8-4973-835C-F79ED316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C92BB1-0BA2-4AF6-B2B0-88073336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67834B-CA45-46B0-9FFC-0FCC51BB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244DC-947E-43BC-9A29-15949849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BBF1-E3F0-4861-B3EC-F1DB5C15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AB3BF3-25D6-4278-A871-412FB85A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97C010-1BB5-4660-87A1-E3D55A03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EA2B4-2438-43FA-9C12-0CA6AF5D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49C3D8-1D3D-4B88-9D1E-B786AA50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714226-6E60-47E5-B545-0C89490B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CA2C55-5D50-4963-A45C-A003BFC5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6D6C1D-B2C2-4693-A295-6EC4586A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61BFAA-7090-4A76-BB8F-1B350926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6F3FC3-EBCA-411A-843D-B4DEB98B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A8F57E-A07A-49E2-A220-8BD016EB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E71-6E56-4FAA-8D5A-265BAD0F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0BB6-E046-499B-B1EA-21B8579A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7500E0-78EF-40BD-B780-7FE535F7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5D0DE5-B74C-41EC-8BB2-68130DC7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0CC16F-4622-4116-9A42-19B22313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A8E5D6-76EF-4915-96DE-C9B58A71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74218B-ECD8-4226-A01F-30663E0E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A5A0A9-D816-45B6-825A-81953B27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2D5F61-47D0-40C3-8996-194B828D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7FA327-1A78-4F83-B6CA-EA306603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8C771C-7539-45E4-8582-E6188D2C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EE0F23-5A5E-4EEF-8B0B-813389E8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D781-611A-431B-ADAE-DF04BC49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FCE74B-6FF0-46A6-B62C-CD6045F6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45D14D-B0C8-4036-9812-D8944240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A69112-0F2B-42F9-87FC-BFC9051B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11154-3AFC-4A87-B2F0-8603E53E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21FB2C-65DA-439D-AA28-125460D1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6588F3-D6CD-43B5-B327-683991D6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9E22FC-5866-47D5-ACC3-4DD32D4C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3E088-125E-449B-ACE5-54867212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D7E32B-E565-4ABF-86B3-7F42C4EB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04A723-CB89-480D-A219-355EB633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A1E7-676B-41F2-BEAA-A32864B1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9E1704-E720-4B8B-A66D-AA25EB55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78767E-D1ED-4D6C-B7C2-FC1E842E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0ED09D-5AA2-4648-A08B-32692728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F17238-BE44-4BD1-BAF1-7C013C07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14BA3B-BB20-4B17-B37C-E3027151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70A3D3-AD41-4E89-A36E-A84C2145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C8A1D9-97C8-47E2-8FA5-DFF24F32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F7B430-5ADB-49E6-BC7B-463C8EE8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0B2275-8992-4DEA-BFAC-9456FA4C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252167-5E40-43B8-BF58-E2087729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A5A5-E687-4E6A-A203-61C52F40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2E4A0-62A0-47B8-887B-17494C96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782DF0-D92E-4FA7-B967-1F530657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3BB450-1B9D-4952-89AD-6F6B0085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2E0554-96D7-46AC-8D01-A12D016D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02AADB-156A-4BEF-9EAA-FD1E2C0A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90A3B0-7FC6-42B4-A309-48C32812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363D43-7A29-4105-A2A0-FF3065AB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227DD4-7D0E-4AFD-93C2-EAE07F32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6DF5E1-0D30-45F3-ABC4-179297BC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4C95DC-B63E-4EBD-BF5D-18DDCF39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75D4-16B0-4933-9E06-D1F8DB01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81A0E-7175-4E05-9632-8BCDA0FB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3D2FA6-A0BC-4614-9B0D-630E7982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8EBE1-1DE1-4587-A049-22630200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7A8BD0-CB65-44E7-9D16-E219A3F2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6AB62-882C-4EBB-AB36-1B561D6A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8C98A5-C01B-4C52-B00D-A49A20DA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E5D25E-FA82-421C-8362-89D5D140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382383-9ACA-415C-8340-CB2DDE4C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FC9B32-AF4A-487F-A771-FC7977F9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F3F05A-E712-4ABE-906A-F14F575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DDEE5-77F4-4289-91A1-C88A110A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69C327-1569-4D10-BD4F-0A818768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C61E77-F737-4832-B98F-A752C5B3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A442EB-3CFA-4C08-9EDF-FA710806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003C29-3A80-4E09-A265-665C02BD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ADC3E5-2A6E-47FC-9079-A91EB393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69E39B-BFA7-4D44-83C8-881FC77E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D7FD7B-27E6-4A76-9598-6608D870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C44788-4D3E-43A1-AE55-A7F270A9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BE40E9-50D6-47C3-AD9B-A11EA810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570D13-23A1-432A-826D-9962848B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B327-5139-4ADB-811C-C1106B97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8B2374-6DD3-413F-8949-75F9F8DE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139F4C-AB08-4F3B-B25D-469D5105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6629EE-55DE-4648-8125-51E7CC3F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5FEF07-68DA-425E-8474-6D4D22BA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51D360-18A5-4750-9361-0BAB434C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DE8CC1-2EF9-4EE0-9D02-48738744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C8F553-2504-4121-8AB1-B3D4BECB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AD056D-6502-4E5E-9434-A78FB7FB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3ADD18-6BFC-4F99-893B-F5D9EF6C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B755F7-43BD-4FD4-881C-4861DC62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D937-4D76-4D5A-B984-0DBD86CD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58BCDD-C59A-430A-A8D9-D12DB778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F79D35-BEBB-4FE8-9846-64768BE1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582C47-5158-452E-BF78-F9EDEB79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EF6ED2-2059-4264-9779-9623D6B6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CDA298-0F5F-469F-B9AD-2537C5C6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94AD8C-D6F7-45E2-BD0C-B33C7E12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CA1AED-0ADB-4D93-8849-C527E41E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66DA9-743F-434D-A0F3-5C6529DE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0C2F-E219-4852-86D0-55A42FA6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7C2-D990-480B-8BF3-954751D5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4902-A774-4026-A980-6233CC2F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A0B0F-E920-4388-B518-63860F5D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3A502-73D4-43E8-847F-0101D012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0B647-7B1B-4D94-960A-46EF2805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D5A6F-9E7D-4C09-93C3-6AC09061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E53F5-F5DD-4D2A-B7DB-2924CCF5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A9487-6CC8-46BB-942A-DCE3C046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18CEE-CD99-486F-A694-4C22E679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F40E3-7DC5-4D43-B86B-965DC3A4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B3794-F90B-428E-B57A-436118B2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708-C258-4E63-BF5B-A557B3EA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81E82-032B-4851-B1CE-9AC41F75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F77BD-BFF1-4D20-9DDD-66C06119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5D5B3-C1A0-4D30-9190-29331AA6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34EFC-1FC9-435E-839B-0D0F2EBA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4EAF8-9648-43FF-AFB9-2CE1EA45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22CD1-9081-4839-9628-5ECF9633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8BFF8-CC20-4F21-B165-C6384589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5E8E7-47C9-4CD6-B552-E24B7B25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38AD9-2998-47F2-A999-EDC534E7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ACA05-24F5-4E55-B25C-F240E80D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508-1B93-4C6F-975A-9FF41580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FC8AA-1655-4A90-B802-A613E260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45B5C-1B74-46B3-8F5D-931255BC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7C1A9-2FDF-423D-820C-02C07D6D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D4134-33F9-4F24-898F-D9731B7B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C42FD-07C6-465B-8CDC-6C717BAB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4F6F8-B9BB-4A3B-9CE7-B66B612C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6B1A3-73E0-4234-93FC-3BA36CB9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53853-0293-4DD8-9401-64A7669B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FCB1E-12CC-470D-BBC9-E872C937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F5387-7927-42BB-9FDE-4534B071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D0B-F15D-47B4-87E3-8150DAAE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9BE60-87BB-40FB-A2F1-BE2D6580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4FAD3-0699-45B8-9594-984AE636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59E04-753E-4C1C-B5F4-42973787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E40E9-DDB8-4E0D-A141-F75C6A83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41160-0886-407B-951C-8B19D53B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658EF-4D06-43C6-8270-06B9E45E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610DB-39FF-4688-A9F3-92F1B337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E2D92-F716-4446-BADD-FE7E63CB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3C34D-5843-4792-A505-025B65F0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76183-B0E2-4A28-99BE-762A6B33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64E-7B61-4015-9A81-D4DEB205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35DC1-BD00-47BF-8297-A195339D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2F817-5814-4F9A-B561-4FE5DA46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DA99E-AF25-482F-AE69-3FC9EF20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9C0DE-ECE0-406E-A2DE-C4D33260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594C1-8CE4-43BB-ACFF-7EDF8F04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D32A3-37F0-484B-BE4E-07B7F73D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08F22-4BC9-4761-962D-C9F7AF52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31232-6415-49EE-8FD2-60318D43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9106E-6A13-45EE-805C-748863C5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80846-688D-4E49-AF81-2D59D1A0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EB8-2F8D-4F55-9594-BAD39DFB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D08FF-CEFD-453A-AE73-00918945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FD0C3-46C1-49DB-92F5-4CAD3B1C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D2199-9747-4936-B193-E742CB43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650D4-BD9E-48BE-9338-A8AA013E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A3E75-BDD5-4613-BB18-96A5A106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4E856-E5F0-4904-A18A-2BC623AC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B8E03-EF31-4D4C-9DBC-A84E98C4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1E98A-B0B8-43A0-95BA-F44F9989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C7CB0-9D18-41F0-8410-E1A867E6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185A3-770F-49F7-8CCD-2B2B8518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DF5-158E-4C45-B931-20BA7F4B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E98BB-2028-4A7A-B4F3-104D40B1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A9E82-4D19-4768-A6CF-35B19098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EF3FB-3CBE-4EA2-BB6E-BE0497DE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432E0-0BE8-464C-AD77-272998FF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E78D2-A1C7-4241-838E-795646E4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CD2F7-8B4B-4F84-AA8B-3E9FD0DA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2CF6E-C23B-4E08-9A3A-80C183A4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63BBF-8ADD-454B-A20F-131F8F1E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F4663-CA53-4994-B2B2-E1F42E6F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1EE36-C0ED-4E01-ABEF-3B27AA1F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FBF8-FEFD-48E2-9332-D251161C48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BF5F-B9DD-462B-9234-5E0BB63DD8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5FDC-81FF-4554-A964-3C3D5B8E9D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3506-85AA-4876-99D8-774F1E5033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8CEA-F9CB-446D-B154-634F226FAD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4E60-B93C-414B-A848-2AF515784F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0D9B-5427-44AA-9A07-3B3D698BE8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3074-5F90-4195-8A28-AC487C4B81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5E4A-AE81-4BDC-AA0E-ABBF0CE595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FA9E-55E0-4B1E-BBE6-BB13BE4444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3904-F26D-4A56-ABCF-EE52C106A1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6D4E-4257-4EB8-BC9A-6A5BB10E06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476B-0F09-4B21-B48E-BD84D987BE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6C76-5CA8-4F43-BBA1-2C1B3E8C6A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98B1-1A5A-43E7-8104-0438D1D91C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44DD-D9A9-4E2A-AE43-EDC2CC11A2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8F85-5BD4-4B47-9E92-1305D85BA7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B6FC-E889-42DF-960F-C918A7E192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E651-78AC-4E7F-8F86-AB6F160D27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A6BE-6683-4B9D-9A8B-98245F0956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ACC1-6D1F-4524-B7CA-74A0D0707D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86A3-C1BE-464E-81D1-05D4BCF5AE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2445-E683-42F7-B54D-CEFB5C9278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2165-7946-4E9E-BD76-4FBEE65581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DED7-E7A5-4D35-AFEC-B08C8447FB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2B4D-4248-43E1-ADD6-0EDEB72B00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4352-B1CB-48A4-9A35-738AF0F469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0D32-8CC5-41D2-B5CA-5AE5F6BA3F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1F93-CCDA-4296-96B4-B1108CEAE5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5216-4372-4088-BF1E-6FA1C43C3C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46BF-8A86-439C-9C45-DA28F8D717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B110-16CB-41EE-AAF2-4E3C0C32CF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3A9F-B554-4D3C-878C-7D7635C34C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4CF5-2043-4A92-AA2F-06406BD7A22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8B18-0433-4325-B148-019831BAB0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DB16-7DA7-4248-A3E9-0B74271C5E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9DBB-B207-4798-A383-F818E95D59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157A-86E5-4B4E-A3FA-1726F21318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2248-CEB7-4916-B956-F66C1BD949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05A4-F767-402A-9718-7A2BBBB9AE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6565-C277-4219-A150-8BEF51F8CB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066A-2F0A-4EEC-9031-DF325A8E0F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35080" y="2406600"/>
            <a:ext cx="8578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00160" y="750960"/>
            <a:ext cx="6419880" cy="166680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7254720" y="1979640"/>
            <a:ext cx="1571760" cy="37152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3" descr=""/>
          <p:cNvPicPr/>
          <p:nvPr/>
        </p:nvPicPr>
        <p:blipFill>
          <a:blip r:embed="rId3"/>
          <a:stretch/>
        </p:blipFill>
        <p:spPr>
          <a:xfrm>
            <a:off x="200160" y="2523960"/>
            <a:ext cx="8724600" cy="38196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358560" cy="2890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468360" y="2492280"/>
            <a:ext cx="358560" cy="2890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95280" y="3429000"/>
            <a:ext cx="358920" cy="2890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468360" y="4724280"/>
            <a:ext cx="358560" cy="2890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8"/>
          <a:stretch/>
        </p:blipFill>
        <p:spPr>
          <a:xfrm>
            <a:off x="468360" y="5589720"/>
            <a:ext cx="35856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1347840" y="2133720"/>
            <a:ext cx="6448320" cy="25905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3851280" y="2627280"/>
            <a:ext cx="1152360" cy="2890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5580000" y="3059280"/>
            <a:ext cx="1152720" cy="288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3492360" y="3500280"/>
            <a:ext cx="1152720" cy="2890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4643280" y="3943440"/>
            <a:ext cx="1152720" cy="2887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4284720" y="4384800"/>
            <a:ext cx="115236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76320" y="1004760"/>
            <a:ext cx="8991360" cy="48484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539640" y="1906560"/>
            <a:ext cx="2087640" cy="2890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4284720" y="1906560"/>
            <a:ext cx="1727280" cy="2890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900000" y="2781360"/>
            <a:ext cx="3384720" cy="2887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5076720" y="2781360"/>
            <a:ext cx="1366920" cy="2887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611280" y="3668760"/>
            <a:ext cx="865080" cy="2887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7"/>
          <a:stretch/>
        </p:blipFill>
        <p:spPr>
          <a:xfrm>
            <a:off x="2340000" y="3654360"/>
            <a:ext cx="503280" cy="2890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8"/>
          <a:stretch/>
        </p:blipFill>
        <p:spPr>
          <a:xfrm>
            <a:off x="2627280" y="4540320"/>
            <a:ext cx="2232000" cy="2887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9"/>
          <a:stretch/>
        </p:blipFill>
        <p:spPr>
          <a:xfrm>
            <a:off x="611280" y="5425920"/>
            <a:ext cx="865080" cy="2890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10"/>
          <a:stretch/>
        </p:blipFill>
        <p:spPr>
          <a:xfrm>
            <a:off x="2843280" y="5402160"/>
            <a:ext cx="86508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386000" y="2109960"/>
            <a:ext cx="6372000" cy="26380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2484360" y="2556000"/>
            <a:ext cx="574920" cy="2887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3059280" y="2987640"/>
            <a:ext cx="574560" cy="2890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3780000" y="3429000"/>
            <a:ext cx="574560" cy="2890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5"/>
          <a:stretch/>
        </p:blipFill>
        <p:spPr>
          <a:xfrm>
            <a:off x="3276720" y="3860640"/>
            <a:ext cx="574560" cy="2890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6"/>
          <a:stretch/>
        </p:blipFill>
        <p:spPr>
          <a:xfrm>
            <a:off x="3851280" y="4311720"/>
            <a:ext cx="79200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30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